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4FE-14EA-4C38-980D-6FF29CDD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B0E-9BFD-4D19-A943-2B88D51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A83-B6BA-420F-85E4-08A86E96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C7A-9B48-4F66-AB97-AEF850C0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D0BC-815C-42C9-8E16-26B6936F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C046-C83D-409F-8ED8-996FD433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20C-329E-43F4-A6C0-0FBEC07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26BC-9F2C-409A-B750-A43E68F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FFC-38D9-464C-8E76-411D933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DEEA-5A4F-43FA-BF25-FF3D90F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B75-D4C0-4FCC-9916-FF0ACC9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B44-9A55-4FA2-ADB8-7782059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FE5-17B6-4A5F-9FD5-91FF73A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1D11-37BC-4A9A-8502-35DA5BF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C69-08FF-471E-A2BA-CCE6EE3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38F-AC41-425A-B362-2915B1B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D854-16E4-4C2A-BC3C-877FA895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705-290F-4170-93BA-1380F01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358-046F-4836-A5E2-112613B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CD5-E77F-4601-871C-5653EB4D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923-38EE-4587-924D-1B2B6EDC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4D6-2E46-4CD8-B37A-D76FC918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1DD-1ABF-4EFE-B8E9-9BBACC5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284-4ECF-46D0-912D-D1C81E4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48A-0377-4327-AC0E-32A614E183C9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BB7-FDC0-428B-B8FE-41A1C6E64182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oftware/Interactive Whiteboards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Notebook Software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d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ools did you use for your presentat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s the presentation engaging and what could make it more engaging or better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How can I effectively use notebook software tools to enhance presentation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What are the tools available to type, write and create different text fonts?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to use the gallery to enhance presentation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of you see lessons in notebook presented to you on a regular basi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hance presentation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you will learn how to navigate through the software and utilize tool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re do you find coordinates grid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nd the interactive scale from the gallery to demonstrate weight change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find other useful tools that you may use in your presenta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ow it is your turn to try it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some interesting features you might use?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ich one should we try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Today you will use the features on the toolbar and the gallery to create a presentation on your favorite hobby.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After 20 minutes we will get back together and share our presenta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earch and select images related to your hobby.</a:t>
            </a:r>
            <a:br>
              <a:rPr sz="2800"/>
            </a:b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ype the text that explain the details about your hobby.</a:t>
            </a:r>
            <a:br>
              <a:rPr sz="2800"/>
            </a:br>
            <a:r>
              <a:rPr b="0" i="1" lang="en-US" sz="28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ange the background color, use different font, borders, colors, place pictures etc.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8:53:06Z</dcterms:modified>
  <cp:revision>4</cp:revision>
  <dc:subject/>
  <dc:title>Workshop Title</dc:title>
</cp:coreProperties>
</file>